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E88-635B-419A-B2F1-FA8CBA27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422-4C3C-440F-97AE-788543C3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4ED-00A0-4E59-A964-D8DC0A33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ADF-163D-4E9D-A92B-6D344E5C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DE5C-ACCF-4C3F-8922-61018834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C503-1E63-41D4-A253-AF35C07A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5506-930D-4FF8-933B-683425D2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7FBB-98C8-4888-9DDC-A949D28A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6040-254E-4518-9741-C0CF4A86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E5FF-3AB6-4F08-92EA-F83EEEA9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8C57-3D6A-45C4-9D14-24B9EB3A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D20A-3B56-4884-9083-4A88946E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D8FD-A44E-4A98-ABA2-85FFCC2D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41E7-FEB4-442D-B56D-2DCCF9F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D5DC-1063-453A-B190-8ED55059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94AE-0E85-40C8-8BBD-A1D4BA81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723B-62F9-4761-826B-9BE9A5F8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38D-BC69-40D2-9E8D-CF638624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155-2514-4565-926A-3810826B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E73-8D50-4342-A2F8-D8069417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F33-131E-4FFD-B479-4E39E65B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955-E5E3-4685-BB68-556E6D8C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43C-0ECE-4071-9D84-07FC763E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A8A-8F00-4D9E-B3FA-CCB81BD7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482A-6AC8-4C1D-860D-D9E1E2FF6C03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335A-352A-4256-A6AB-5319486234D2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Connie Campbell</cp:lastModifiedBy>
  <dcterms:modified xsi:type="dcterms:W3CDTF">2002-05-31T21:55:06Z</dcterms:modified>
  <cp:revision>3</cp:revision>
  <dc:subject/>
  <dc:title>Twenty Questions </dc:title>
</cp:coreProperties>
</file>